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1DA-D5D5-45BC-8E93-5C5F46B11F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54B9-EA15-4AC8-AAA6-0FDE6F5C1F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B4A-E2D6-485E-B126-5CC91EBD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DA3-8031-49D9-9DA5-B09F638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EC7-A511-4543-8E12-051AD02C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15A-7DD7-4EC8-A01B-E107C318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27F-734F-44FE-86EA-1E1F60B1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1CD-A278-4C5F-921D-93807E3B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4DE-E828-4DF9-BE60-58D637F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81B-12C3-4F35-9D33-958E52A7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BD9-9DD7-4E55-B036-BAFAAE2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BE6-8CAE-4C75-8C97-095322F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95A-00EB-4F27-AD3F-8B06B068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97A-DBD6-4D4D-A018-7308D7C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7C4-2E79-4148-BF00-0D6AECE810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2514600"/>
            <a:ext cx="63244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us threw out the demon which was in the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the man whom you are see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e ate the meal which the king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phet offered the sacrifice, because of which the rain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is the Messiah for whom we are wa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overnor sent the soldiers who arrest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4920" y="15238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k down these complex sentences into two basic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word is the antecedent of the relative in these sent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010280" y="2529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10280" y="3032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10280" y="3551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10280" y="4043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crif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010280" y="48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i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010280" y="5397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d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57120" y="1228680"/>
            <a:ext cx="3581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ὁ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οὑ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ᾑ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α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α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οὑ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τη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ὡ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ο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1360" y="170496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uter Nominati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81360" y="222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881360" y="26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uter Geni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81360" y="32148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D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81360" y="3686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Nomin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81360" y="421956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Nominative Plural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881360" y="4724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Accus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881360" y="5210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Accusative Singular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881360" y="5715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, Femin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uter Geni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881360" y="6235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uter D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214280"/>
            <a:ext cx="442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 τον δουλον ὁν ἐκαλε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ε ἐκ του οἰκου ἐν ᾡ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 ἐστιν τα ποτηρια ἁ φιλου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πιστευσαν γαρ τῳ ἐυαγγελιῳ ὃ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ποστολοι ἐκηρυσσ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σπαζεσθε οἳ ἐρχονται προς ὑ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ἐστιν ὁ κυριος δι’ οὑ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ξο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198288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ee the slave whom he c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89640" y="25272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 from the house in which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92520" y="33163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are the cups which we l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606920" y="404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believed the good news which the apostles were pr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619520" y="49230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t (pl.) the ones who are coming to you (pl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19520" y="56944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the Lord through whom we will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657440"/>
            <a:ext cx="450036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σπαζεσθε τον Τιμοθεον ὑπε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 ἡ ἐκκλησια προσευ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eeps the bread which h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love the God who saves 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(s.) believe the gospel which you he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the disciple who denied Jesus rep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99000" y="1568520"/>
            <a:ext cx="45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saying to you what I heard (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eard, this I am saying to y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89640" y="22114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t Timothy on whose behalf the church i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92520" y="30146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ρει τον ἀρτον ὁν ἐποι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06920" y="371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φιλειν τον θεον ὁς σωζει ἡ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19520" y="46022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εις τῳ εὐαγγελιῳ ὃ ἠκουσ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5278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μαθητης ὁς ἠρνησατο τον Ἰησουν μετενοησ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42920" y="109224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 ἠκουσα ταυτα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2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2920" y="1500120"/>
            <a:ext cx="47149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 βλεπ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 φιλεις 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ω οὐ φιλω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 ἐγ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57760" y="22575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ely you don’t see? / You don’t se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57760" y="3071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ely you love me? / You don’t love m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57760" y="3887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not love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57760" y="47228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ely not I? / It is not me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85840" y="121428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se sentences include direct or indirect statemen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ndirect, which Greek tense would be used in the indirect sta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8720" y="2417760"/>
            <a:ext cx="4267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nturion says that he is g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id to him, 'Worship m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men said that he had been bl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ldiers thought that they saw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lind people said, 'We want to se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y cried out that he wa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24400" y="2432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24400" y="2887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24400" y="3343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Im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24400" y="40971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Ao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24400" y="486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24400" y="5619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1357200"/>
            <a:ext cx="85341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Greek, which case would be used for these time expressio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came on the Sabbat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fasted for forty day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odemus came by nigh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days he was in the tom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dawn the stone mov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was arrested during Passov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4480" y="28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433840" y="337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429160" y="393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29160" y="4489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29160" y="5011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29160" y="5565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4440" y="2700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38:18Z</dcterms:created>
  <dc:creator>Sarah</dc:creator>
  <dc:description/>
  <dc:language>en-US</dc:language>
  <cp:lastModifiedBy>Sarah</cp:lastModifiedBy>
  <dcterms:modified xsi:type="dcterms:W3CDTF">2009-08-09T10:51:48Z</dcterms:modified>
  <cp:revision>23</cp:revision>
  <dc:subject/>
  <dc:title>Slide 1</dc:title>
</cp:coreProperties>
</file>